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7C7B-90B1-4245-BDDA-03482AFC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2847-A5BE-4E17-9ECB-68185592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F30E-7E48-4602-8869-1C855C87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8DF3-448D-4EE8-A86F-8F565B333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B970-C307-429A-8FD4-CDA5F6CE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805C-BFEA-439E-8356-E9BA8989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462C-6318-48D8-971D-F81B2F61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0772-D168-45FE-B634-37341D16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0BF0-5CF7-4472-9D93-31FD7CEB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41E1-2710-4A9F-9E08-32270A12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85E6-E63A-4D08-8000-D28F9C35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D110-A811-4F46-AFE8-793371B7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687F-275F-46C9-A9B3-8FF4F80F6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 Narrow"/>
              </a:rPr>
              <a:t>Glory to God in the High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lory to God in the highe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peace to God’s peo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 God, heavenly King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mighty God and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worship you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give you thank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praise you for your gl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ly Son of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 God, Lamb of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take away the sin of the worl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are seated at the right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Fath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receive our pray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you alone are the Holy On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alone are the Lor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alone are the Most Hig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Jesus Chri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glory of God the Father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00:20Z</dcterms:created>
  <dc:creator>Anon Anon</dc:creator>
  <dc:description/>
  <dc:language>en-US</dc:language>
  <cp:lastModifiedBy>Anon Anon</cp:lastModifiedBy>
  <dcterms:modified xsi:type="dcterms:W3CDTF">2005-08-09T05:26:53Z</dcterms:modified>
  <cp:revision>10</cp:revision>
  <dc:subject/>
  <dc:title>PowerPoint Presentation</dc:title>
</cp:coreProperties>
</file>